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61D-DFC0-4857-9C94-C6E0C322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19A-373F-4C1E-A328-0A6A963E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9E9-733D-4BE6-8A18-E9ABB9CF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A18-4CCD-4A91-9FB4-E6313BC3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7D90-5629-492C-97E7-3A693ADD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0E63-E290-488A-846E-C81040E3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5D2F-B888-4276-B04B-14CADC72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30B3-3859-421B-BCF8-766E4ED6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3FDC-8D76-44B0-B358-0F5A87B4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7040-DC9F-4E9F-B7A0-C75AEB9B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206B-B0EE-4465-B6E5-1114D114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7E0-2007-4EBA-84F9-6AF2D88D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6400-48E1-45B6-A8D4-291563E7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2A89-2D81-4C54-BF06-06B698C5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10C1-6D8E-431E-99F1-9F2B802B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0186-50CB-4E39-B8FA-3903F133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026F-FAE6-40E1-8D9F-8F78570B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33872-1C36-433E-BC29-4B8A55D1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B191F-B38D-459D-8087-3D89DB7F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9FF8A-D787-46BD-B513-5A50B8A1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25261-1BE9-4A47-9354-E59AA466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871EF-3522-449E-B00F-39CCF4AC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63E-6540-47F0-A548-E725BFDE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836E2-C659-4271-A274-2BF429E6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27C6F-2103-456C-B0F8-7B14C1B1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FCF14-D00C-488D-A940-B7EA292B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4F5BD-121F-486A-B83A-D05614F3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CDE2E-C33C-4F94-9A48-FAC443EA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6DFEF-E20D-4741-92CD-0BFEB12A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EEF9A-5594-4D08-AF94-FE6E4DC6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6EBFA-483A-429B-9A57-39D4C43D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A597B-79DB-46FC-9389-17F32997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91772-8617-4A83-AC8D-31576282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A37-B16C-489F-92F6-76FB2E3B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7F5B1-A7D3-4155-91EE-744556DB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BAC7F-555C-454A-B05E-5446EF92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B5CA9-2C22-494F-B05B-7800F2A8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91A27-F68F-416A-8615-B131B062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EA6B9-B979-463E-A245-5DCD405D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6C1C2-3802-4E48-9544-CB9E3BAD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BBEEC-4DC2-4113-8551-A7360DCB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8F450-AD0F-4F04-810E-4076F045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8D0E0-4627-43A9-A302-244B09A8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3E779-A792-4A93-9416-1AB4B235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E7B-1B78-4498-9B7D-0874A34B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CA339-8DB3-4B8A-9C92-CB523993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F835C-5071-4799-B8E0-99DA54B7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1BAB8A-BEED-487B-BE1C-005C2712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5508C-5C7E-429A-887E-9A75CFCE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02DBE-6EEC-49F7-BEAA-49BE8F04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FFC43-3EEE-4083-A67A-5C722209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5CDF8-A6A4-4C51-A61A-FDCC8E5C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51BD7-2EA7-4700-B0AA-8AFC2D03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EAFFC6-B76E-4A7C-9C60-E431E0CD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F89D9-8221-45D4-8B64-18F5A258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192-98D1-416F-A45A-5FF60A85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D9FC96-44B9-4DEA-8969-98DBA542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C8171-3327-4D23-8B9A-3B4A7E34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FEF1E7-72AF-4769-90B6-45A3895C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E4C4D-72E0-48D0-BD10-E3AEC6FE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FA56F7-9A08-46B0-A215-7DEE4291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76E17-1234-43B1-B7EA-3D09EF80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F2402E-1279-4DDC-B203-B27E03A8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1D905-0E0B-4967-9A5B-F9F08F95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E3E811-200E-41D5-A75A-B8AAF5A3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A0C9B-D7CF-433B-AF97-4A73F2C4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E53-26E9-44CE-8A47-20A9B62B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2D05C8-5723-4A7F-B431-4FA466B0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CBC6E-7830-495A-95C8-0586D913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857EE4-45AE-43FA-9EAD-1A14A2EA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9DA78-03B8-4733-95BB-55D709A6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BA09AF-CA17-4050-B921-F47B0165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3D1D1-120A-48C3-A725-B5FF68D6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C3181D-4E6B-4080-B570-4E89162B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73F7AF-230F-4D1C-B067-ED276D8F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188889-809B-4422-A6D9-EEFB48B1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20EA12-8AB7-4803-B2A3-0AE73EF3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F25-550B-4716-9DD1-28D5AB12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C625B7-202C-4CB2-8812-F9BC32D5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4FB0E8-D8B7-4408-9DFD-34223C59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B7D38-03E0-4706-BBED-8A961CBF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8DF1CA-E6C3-41A5-8103-3381432C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C9F01-9B37-4869-B98A-3AA193E1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55F-D445-4A09-9B2A-968017A5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uora yhdysviiv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uora yhdysviiv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uora yhdysviiv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uorakulmi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uora yhdysviiv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lipsi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5D0C-9D9D-43B6-A411-BB7F3154A9B3}" type="slidenum">
              <a:rPr b="1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uorakulmi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uorakulmi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uorakulmi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orakulmi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ora yhdysviiv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uora yhdysviiv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uora yhdysviiv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uora yhdysviiv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uora yhdysviiv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uora yhdysviiv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uorakulmi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i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i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i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lipsi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i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3338-03ED-4D4A-97B7-FCAF8A09EFDE}" type="slidenum">
              <a:rPr b="1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uora yhdysviiv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uora yhdysviiv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uora yhdysviiv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uorakulmi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uora yhdysviiv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i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08B0-34AC-4202-8D3A-1BD800B8CCD4}" type="slidenum">
              <a:rPr b="1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uorakulmi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uorakulmi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uorakulmi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uorakulmi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uora yhdysviiv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uora yhdysviiv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uora yhdysviiv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uora yhdysviiv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uora yhdysviiv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uorakulmi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lipsi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lipsi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lipsi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lipsi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lipsi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uora yhdysviiv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e9ec"/>
                </a:solidFill>
                <a:latin typeface="Franklin Gothic Medium"/>
              </a:rPr>
              <a:t>Click to edit the title text format</a:t>
            </a:r>
            <a:endParaRPr b="0" lang="en-US" sz="3000" spc="-1" strike="noStrike">
              <a:solidFill>
                <a:srgbClr val="dde9ec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BAB2-08B2-4C02-93F3-1E355317B63F}" type="slidenum">
              <a:rPr b="1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uora yhdysviiv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uora yhdysviiv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uora yhdysviiv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uorakulmi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uora yhdysviiv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lipsi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BB64-7965-4D37-BAEA-CDFC5F3A484E}" type="slidenum">
              <a:rPr b="1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uora yhdysviiv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uora yhdysviiv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uora yhdysviiv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uora yhdysviiv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uorakulmi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uora yhdysviiv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lipsi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330B-5A22-4EFA-9BB7-291734438914}" type="slidenum">
              <a:rPr b="1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uora yhdysviiv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lipsi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uora yhdysviiv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uorakulmi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uora yhdysviiv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uora yhdysviiv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uora yhdysviiv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4FAA-F52A-416D-916E-6AF17C41A257}" type="slidenum">
              <a:rPr b="1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8800" spc="-1" strike="noStrike">
                <a:solidFill>
                  <a:srgbClr val="464653"/>
                </a:solidFill>
                <a:latin typeface="Franklin Gothic Medium"/>
              </a:rPr>
              <a:t>VOICE THREAD</a:t>
            </a:r>
            <a:endParaRPr b="0" lang="en-US" sz="88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464653"/>
                </a:solidFill>
                <a:latin typeface="Franklin Gothic Book"/>
              </a:rPr>
              <a:t>Annukka</a:t>
            </a:r>
            <a:br>
              <a:rPr sz="1800"/>
            </a:br>
            <a:r>
              <a:rPr b="1" lang="fi-FI" sz="1800" spc="-1" strike="noStrike">
                <a:solidFill>
                  <a:srgbClr val="464653"/>
                </a:solidFill>
                <a:latin typeface="Franklin Gothic Book"/>
              </a:rPr>
              <a:t>Elina</a:t>
            </a:r>
            <a:br>
              <a:rPr sz="1800"/>
            </a:br>
            <a:r>
              <a:rPr b="1" lang="fi-FI" sz="1800" spc="-1" strike="noStrike">
                <a:solidFill>
                  <a:srgbClr val="464653"/>
                </a:solidFill>
                <a:latin typeface="Franklin Gothic Book"/>
              </a:rPr>
              <a:t>Ink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6000" spc="-1" strike="noStrike">
                <a:solidFill>
                  <a:srgbClr val="464653"/>
                </a:solidFill>
                <a:latin typeface="Franklin Gothic Medium"/>
              </a:rPr>
              <a:t>VOICE THREAD </a:t>
            </a:r>
            <a:endParaRPr b="0" lang="en-US" sz="6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Ilmainen palvelu, jonka avulla voi jakaa esityksiä ympäri maailma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Kuvia, videoita, tekstiä  ja ääntä, esim. JPEG, GIF, BMP, PNG, PPT, PPS, PDF, DOC, XLS myös Facebook ja Fliktmikäl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Muut voivat kommentoida äänittämällä, kirjoittamalla ja piirtämällä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Oman VT-esityksensä kommentteja voi hallita(moderate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Yhdellä käyttäjällä voi olla useita identiteettejä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6000" spc="-1" strike="noStrike">
                <a:solidFill>
                  <a:srgbClr val="464653"/>
                </a:solidFill>
                <a:latin typeface="Franklin Gothic Medium"/>
              </a:rPr>
              <a:t>DOODLING </a:t>
            </a:r>
            <a:endParaRPr b="0" lang="en-US" sz="6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Piirtotyökalu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Havainnollistaa kommentti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Esimerkki: http://voicethread.com/about/doodling/#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6000" spc="-1" strike="noStrike">
                <a:solidFill>
                  <a:srgbClr val="464653"/>
                </a:solidFill>
                <a:latin typeface="Franklin Gothic Medium"/>
              </a:rPr>
              <a:t>EMBEDDING</a:t>
            </a:r>
            <a:endParaRPr b="0" lang="en-US" sz="6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Upottami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Voice Thread -keskusteluja voi siirtää mille tahansa websitell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VT-esityksen voi siirtää helposti myös Moodle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http://voicethread.com/about/embedding/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6000" spc="-1" strike="noStrike">
                <a:solidFill>
                  <a:srgbClr val="464653"/>
                </a:solidFill>
                <a:latin typeface="Franklin Gothic Medium"/>
              </a:rPr>
              <a:t>EXPORTING</a:t>
            </a:r>
            <a:endParaRPr b="0" lang="en-US" sz="6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http://voicethread.com/about/exporting/#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Ilmaissovelluksen lisäksi: Pro, k-12, Higher Ed ja Busines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ranklin Gothic Book"/>
              </a:rPr>
              <a:t>http://voicethread.com/help/faq/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1:21:09Z</dcterms:created>
  <dc:creator>Inka&amp;Jari</dc:creator>
  <dc:description/>
  <dc:language>en-US</dc:language>
  <cp:lastModifiedBy>Inka&amp;Jari</cp:lastModifiedBy>
  <dcterms:modified xsi:type="dcterms:W3CDTF">2009-09-24T19:23:40Z</dcterms:modified>
  <cp:revision>16</cp:revision>
  <dc:subject/>
  <dc:title>Voice Thread</dc:title>
</cp:coreProperties>
</file>